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3EC-DE5E-4066-890A-F9A88D7D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016-7514-48F1-A0E8-4696E5E6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5FC-8F59-4442-9BC1-23BBBFD1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E17-9B93-4A51-A4F3-AC5B2AEC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B71-338A-451E-A34C-A9A03A6B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F98-F1A2-4237-A17C-09BE351A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DDC-4B77-48DD-BC74-32ACB141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F60-F3AC-47B7-8623-EF6181ED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5F6-A878-4273-9FB7-9EA298E9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617-FC2F-4E73-8B37-9102872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593-4A82-4585-B7AD-6780ACC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080-D3E7-41A4-8B2B-C3F0D491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0A36-7490-4D69-93BC-AB88449444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in Pl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7503" t="3331" r="27503" b="1669"/>
          <a:stretch/>
        </p:blipFill>
        <p:spPr>
          <a:xfrm>
            <a:off x="3124080" y="1981080"/>
            <a:ext cx="288792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5943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gulation of tran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mata open and close due to changes in turgor pressure of guard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gor results from active uptake of potassium (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creates a water potential that causes water to enter osmotically, guard cells to become turgid, and stomata to op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51878" t="11252" r="19062" b="45000"/>
          <a:stretch/>
        </p:blipFill>
        <p:spPr>
          <a:xfrm>
            <a:off x="6310440" y="685800"/>
            <a:ext cx="28335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46252" t="12504" r="24688" b="46252"/>
          <a:stretch/>
        </p:blipFill>
        <p:spPr>
          <a:xfrm>
            <a:off x="6351480" y="3886200"/>
            <a:ext cx="279252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4B3-4843-40A5-99D6-D08C7E694280}" type="slidenum">
              <a:t>10</a:t>
            </a:fld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76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me other facts about the sto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29528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in the day and closed at night - need carbon dioxide in the daylight for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ater is scarce, plant wilts and guard cells become fl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cisic acid - plant hormone that causes 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pass out of cells and guard cells become fl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levels of 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ause guard cells to become fl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ves lost when water is sca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48B-033F-4F67-BF87-833B5D78F53E}" type="slidenum">
              <a:t>11</a:t>
            </a:fld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factors regulating trans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loss regula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m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uous le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, hard le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ch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ADA-AF7B-4F7B-A627-7985EF06F4B9}" type="slidenum">
              <a:t>12</a:t>
            </a:fld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t response to flooding – depletes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s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erenchy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oose parenchyma tissue with large air 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 transported from above-water to below-water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19D-E25C-47AA-855D-5B6A8E00ABA1}" type="slidenum">
              <a:t>13</a:t>
            </a:fld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erenchym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8331" r="0" b="3331"/>
          <a:stretch/>
        </p:blipFill>
        <p:spPr>
          <a:xfrm>
            <a:off x="914400" y="1143000"/>
            <a:ext cx="731520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0D0-F091-403B-A940-ABB18838A066}" type="slidenum">
              <a:t>14</a:t>
            </a:fld>
          </a:p>
        </p:txBody>
      </p:sp>
    </p:spTree>
  </p:cSld>
  <p:transition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t Response to Floo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lt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 must be excluded, actively secreted, or diluted as it 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groves have pneumatoph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3331" r="0" b="0"/>
          <a:stretch/>
        </p:blipFill>
        <p:spPr>
          <a:xfrm>
            <a:off x="2438280" y="3505320"/>
            <a:ext cx="4343400" cy="31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C2F-42D6-425C-869B-CE80C462D587}" type="slidenum">
              <a:t>15</a:t>
            </a:fld>
          </a:p>
        </p:txBody>
      </p:sp>
    </p:spTree>
  </p:cSld>
  <p:transition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loem Transport is Bidirect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lo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distribution of carbohydrates manufactured in leaves to rest of the p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ergy requirements for phloem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s-flow hypothe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olved carbohydrates flow from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re released at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38B-3F05-4798-9B4C-888A3882AB06}" type="slidenum">
              <a:t>16</a:t>
            </a:fld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ransloc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Distribution of nutrients, especially carbohydrates, through the phloem – “source and sin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smos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lays an important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loem loading - Sucros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vely load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 phloem t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er moves in and carries sucrose along pass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energy required for this process 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ing and unloading sucrose in phloem tubes does requir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nion cells of phloem provide the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D89-74D8-406A-895E-B04DC291F278}" type="slidenum">
              <a:t>17</a:t>
            </a:fld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 of Water and Miner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and Mineral Absor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directional Phloem Trans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039-FF5D-439E-92E7-BCA3D0EC6156}" type="slidenum">
              <a:t>2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view of 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utrients and water enter plant through roots, and move upward in xy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through spaces between cell protoplasts, plasmodesmata, cell membranes and xy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mosis is enhanced b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quapor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channels) in vacuole and plasma membra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i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pulls” water through stom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e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FAF-86B2-43D4-BAF7-3FE501B21AD9}" type="slidenum">
              <a:t>3</a:t>
            </a:fld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Movement Through A Pla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6669" r="0" b="6669"/>
          <a:stretch/>
        </p:blipFill>
        <p:spPr>
          <a:xfrm>
            <a:off x="380880" y="990720"/>
            <a:ext cx="8382240" cy="54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7B7-FCC6-4C87-AA9A-159B5A06DC94}" type="slidenum">
              <a:t>4</a:t>
            </a:fld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Absorp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water absorbed through root h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e potential greater than surrounding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expenditure required to accumulate ions in roo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pu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and ions must pass through plasma membranes and protoplasts of endodermal cells to reach the xy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E4E-8C5B-4289-9539-7EF68FFCBE58}" type="slidenum">
              <a:t>5</a:t>
            </a:fld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neral Transport in Roo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1669" r="0" b="6669"/>
          <a:stretch/>
        </p:blipFill>
        <p:spPr>
          <a:xfrm>
            <a:off x="533520" y="1219320"/>
            <a:ext cx="8153280" cy="49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AE8-FF98-4417-987C-D8823EE4518B}" type="slidenum">
              <a:t>6</a:t>
            </a:fld>
          </a:p>
        </p:txBody>
      </p:sp>
    </p:spTree>
  </p:cSld>
  <p:transition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Absorp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655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oot pres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movement of water into the plant and up the xylem columns despite absence of tran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transport increases solute potential of ro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root pressure may lead to gut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through groups of cells located near edg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2076480" cy="20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9E9-F9FA-4496-87AF-1B3A04F64754}" type="slidenum">
              <a:t>7</a:t>
            </a:fld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poration from leaves produces a tension on entire water column extending down to the ro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has inherent tensile strength that varies inversely with the diameter of the colum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ubbles cause xylem to f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s must admit carbon dioxide, but must control water l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39B-CA06-4E7B-A031-A97249B57114}" type="slidenum">
              <a:t>8</a:t>
            </a:fld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ir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5000" r="0" b="5000"/>
          <a:stretch/>
        </p:blipFill>
        <p:spPr>
          <a:xfrm>
            <a:off x="914400" y="1219320"/>
            <a:ext cx="73152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5E8-5431-46D5-A5EC-8B025A07E70B}" type="slidenum">
              <a:t>9</a:t>
            </a:fld>
          </a:p>
        </p:txBody>
      </p:sp>
    </p:spTree>
  </p:cSld>
  <p:transition>
    <p:pull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Doug Elrod</cp:lastModifiedBy>
  <dcterms:modified xsi:type="dcterms:W3CDTF">2005-08-04T12:29:15Z</dcterms:modified>
  <cp:revision>62</cp:revision>
  <dc:subject/>
  <dc:title>PowerPoint Presentation</dc:title>
</cp:coreProperties>
</file>